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07A-E427-4D40-B66B-C9B61181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DB2-30D5-412B-81D9-8B31A6F2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620-19E5-4FB0-AB3F-FC8A2EA6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959-DC0D-41DC-8F07-C0457FE9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7C08-CDE8-4CB4-AEB2-EC7DDDC7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58F7-07A7-4EBF-8999-542B847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3A71-A716-49EC-BADB-A32AE097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AA9-2B5F-467F-A0B2-19D4FC7C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3D3-84F3-4C7E-85DB-F6D1E7D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77724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8C62-1BF3-4E56-B948-69F02945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259F-2AC2-4571-AA22-CF19D58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7BC-E317-47BC-B753-7E8FCD7A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B453-5A01-4934-9F55-3A26FC2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E306-44E3-4E20-827E-4CAFB6B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349-9CBA-40AB-B622-722504C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5651-6C27-4EF1-AAB8-F5C71DBD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11A4-626F-45D9-8A5F-254EF67E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262-A9EC-48C5-A7F2-83D21ADE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BBE-5D44-45D6-A339-49DF3D67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577-2B1C-42D7-859C-97460B5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228600"/>
            <a:ext cx="77724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ACA-6A1B-4509-AAD7-F83BF1A7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036-67D2-4746-A3AD-1230CA1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9F4-5D9C-47B6-8B5A-097AAE81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E16-85F5-4D92-B8B8-CA0F3B8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d60093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6654-7D62-4284-9E12-7B798D717C2C}" type="slidenum"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919-FB48-4B69-927C-5324A498FE9B}" type="slidenum">
              <a:rPr b="0" lang="en-CA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600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12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2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5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21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24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4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7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7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30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0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3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3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36.xml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39.xml"/><Relationship Id="rId5" Type="http://schemas.openxmlformats.org/officeDocument/2006/relationships/slide" Target="slide49.xml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39.xml"/><Relationship Id="rId4" Type="http://schemas.openxmlformats.org/officeDocument/2006/relationships/slide" Target="slide49.xml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6.xml"/><Relationship Id="rId6" Type="http://schemas.openxmlformats.org/officeDocument/2006/relationships/slide" Target="slide49.xml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42.xml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51.xml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9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49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e00"/>
            </a:gs>
            <a:gs pos="50000">
              <a:srgbClr val="00cc00"/>
            </a:gs>
            <a:gs pos="100000">
              <a:srgbClr val="00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880" y="0"/>
            <a:ext cx="8305920" cy="601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ff"/>
                  </a:outerShdw>
                </a:effectLst>
                <a:latin typeface="Impact"/>
              </a:rPr>
              <a:t>BIGLION</a:t>
            </a:r>
            <a:endParaRPr b="0" lang="en-US" sz="24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51055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47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uvád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53480" y="27432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olik herců ztvárnilo filmovou postavu JB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olik herců ztvárnilo filmovou postavu JB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rId4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olikátá oficiální Bondovka se natáčí v roce 2002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8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olikátá oficiální Bondovka se natáčí v roce 2002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ázev zní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eyond The Ic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r. Kiss And Mr. Ba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illenniu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ie Another Da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762120" y="3886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5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ázev zní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eyond The Ic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Die Another Da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4" action="ppaction://hlinksldjump"/>
          </p:cNvPr>
          <p:cNvSpPr/>
          <p:nvPr/>
        </p:nvSpPr>
        <p:spPr>
          <a:xfrm>
            <a:off x="762120" y="5867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terá zpěvačka k tomuto filmu nazpívá titulní píseň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ennifer Lopez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Whitney Houst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adon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hakir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686800" cy="3200400"/>
          </a:xfrm>
          <a:prstGeom prst="rect">
            <a:avLst/>
          </a:prstGeom>
          <a:noFill/>
          <a:ln w="0">
            <a:noFill/>
          </a:ln>
          <a:effectLst>
            <a:outerShdw dist="171040" dir="2879153" blurRad="0" rotWithShape="0">
              <a:srgbClr val="ff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0000ff"/>
                </a:solidFill>
                <a:latin typeface="Impact"/>
              </a:rPr>
              <a:t>KVÍZ</a:t>
            </a:r>
            <a:r>
              <a:rPr b="1" lang="cs-CZ" sz="9600" spc="-1" strike="noStrike">
                <a:solidFill>
                  <a:srgbClr val="ffcc00"/>
                </a:solidFill>
                <a:latin typeface="Impact"/>
              </a:rPr>
              <a:t>    </a:t>
            </a:r>
            <a:r>
              <a:rPr b="1" lang="cs-CZ" sz="9600" spc="-1" strike="noStrike">
                <a:solidFill>
                  <a:srgbClr val="ffff00"/>
                </a:solidFill>
                <a:latin typeface="Impact"/>
              </a:rPr>
              <a:t>JAMES</a:t>
            </a:r>
            <a:br>
              <a:rPr sz="3200"/>
            </a:br>
            <a:r>
              <a:rPr b="1" lang="cs-CZ" sz="9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1" lang="cs-CZ" sz="11000" spc="-1" strike="noStrike">
                <a:solidFill>
                  <a:srgbClr val="00ff00"/>
                </a:solidFill>
                <a:latin typeface="Impact"/>
              </a:rPr>
              <a:t>B</a:t>
            </a:r>
            <a:r>
              <a:rPr b="1" lang="cs-CZ" sz="9600" spc="-1" strike="noStrike">
                <a:solidFill>
                  <a:srgbClr val="00ff00"/>
                </a:solidFill>
                <a:latin typeface="Impact"/>
              </a:rPr>
              <a:t>       </a:t>
            </a:r>
            <a:r>
              <a:rPr b="1" lang="cs-CZ" sz="11000" spc="-1" strike="noStrike">
                <a:solidFill>
                  <a:srgbClr val="00ff00"/>
                </a:solidFill>
                <a:latin typeface="Impact"/>
              </a:rPr>
              <a:t>O</a:t>
            </a:r>
            <a:r>
              <a:rPr b="1" lang="cs-CZ" sz="9600" spc="-1" strike="noStrike">
                <a:solidFill>
                  <a:srgbClr val="00ff00"/>
                </a:solidFill>
                <a:latin typeface="Impact"/>
              </a:rPr>
              <a:t>        </a:t>
            </a:r>
            <a:r>
              <a:rPr b="1" lang="cs-CZ" sz="11000" spc="-1" strike="noStrike">
                <a:solidFill>
                  <a:srgbClr val="00ff00"/>
                </a:solidFill>
                <a:latin typeface="Impact"/>
              </a:rPr>
              <a:t>N </a:t>
            </a:r>
            <a:r>
              <a:rPr b="1" lang="cs-CZ" sz="9600" spc="-1" strike="noStrike">
                <a:solidFill>
                  <a:srgbClr val="00ff00"/>
                </a:solidFill>
                <a:latin typeface="Impact"/>
              </a:rPr>
              <a:t>        </a:t>
            </a:r>
            <a:r>
              <a:rPr b="1" lang="cs-CZ" sz="11000" spc="-1" strike="noStrike">
                <a:solidFill>
                  <a:srgbClr val="00ff00"/>
                </a:solidFill>
                <a:latin typeface="Impact"/>
              </a:rPr>
              <a:t>D</a:t>
            </a:r>
            <a:endParaRPr b="0" lang="en-US" sz="11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terá zpěvačka k tomuto filmu nazpívá titulní píseň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ennifer Lopez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adonn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7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olikáté výročí od natočení prvního filmu se v roce 2002 slaví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4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rId5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7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olikáté výročí od natočení prvního filmu se v roce 2002 slaví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40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30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8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 se jmenuje šéf Jamese Bond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762120" y="3581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>
            <a:hlinkClick r:id="rId4" action="ppaction://hlinksldjump"/>
          </p:cNvPr>
          <p:cNvSpPr/>
          <p:nvPr/>
        </p:nvSpPr>
        <p:spPr>
          <a:xfrm>
            <a:off x="762120" y="45720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>
            <a:hlinkClick r:id="rId5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8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 se jmenuje šéf Jamese Bonda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762120" y="3581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B se jednou oženil, jak se jmenovala jeho manželk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Amanda</a:t>
            </a: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rac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amanth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eměl manželk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5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B se jednou oženil, jak se jmenovala jeho manželka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rac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amanth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762120" y="4952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e00"/>
            </a:gs>
            <a:gs pos="50000">
              <a:srgbClr val="00cc00"/>
            </a:gs>
            <a:gs pos="100000">
              <a:srgbClr val="005e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3520" y="304920"/>
            <a:ext cx="8153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969696"/>
                    </a:gs>
                    <a:gs pos="100000">
                      <a:srgbClr val="dddddd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ccc00"/>
                  </a:outerShdw>
                </a:effectLst>
                <a:latin typeface="Arial Black"/>
              </a:rPr>
              <a:t>Pravidla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969696"/>
                  </a:gs>
                  <a:gs pos="100000">
                    <a:srgbClr val="dddddd"/>
                  </a:gs>
                </a:gsLst>
                <a:lin ang="13500000"/>
              </a:gradFill>
              <a:effectLst>
                <a:outerShdw dist="153753" dir="2700000" blurRad="0" rotWithShape="0">
                  <a:srgbClr val="cccc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Impact"/>
              </a:rPr>
              <a:t>1.  Pro odpověď klikněte do pole s písmenem A, B, C nebo D</a:t>
            </a:r>
            <a:br>
              <a:rPr sz="4400"/>
            </a:br>
            <a:r>
              <a:rPr b="0" lang="cs-CZ" sz="4400" spc="-1" strike="noStrike">
                <a:solidFill>
                  <a:srgbClr val="00ff00"/>
                </a:solidFill>
                <a:latin typeface="Impact"/>
              </a:rPr>
              <a:t>2. Pokud si nejste jisti, klikněte na volné místo, objeví se nápověda, pak klikněte na ni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Impact"/>
              </a:rPr>
              <a:t>3. Pokud ani potom neuspějete, není vám pomoci, začínáte znovu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B má také mimo služebního označení i vojenskou hodnost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apitá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oručí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lukovní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majo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3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>
            <a:hlinkClick r:id="rId5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0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B má také mimo služebního označení i vojenskou hodnost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apitá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lukovník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rId4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Zahráli si někdy herci představující JB společně ve filmu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en Connery a Moo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en Moore a Brosna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šichni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o s niký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Zahráli si někdy herci představující JB společně ve filmu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en Connery a Moo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o s nikým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6" name="">
            <a:hlinkClick r:id="rId3" action="ppaction://hlinksldjump"/>
          </p:cNvPr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>
            <a:hlinkClick r:id="rId4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 roce 1983 byla natočena parodie s názvem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y neumírej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y neříkej nik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y víc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762120" y="3581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>
            <a:hlinkClick r:id="rId4" action="ppaction://hlinksldjump"/>
          </p:cNvPr>
          <p:cNvSpPr/>
          <p:nvPr/>
        </p:nvSpPr>
        <p:spPr>
          <a:xfrm>
            <a:off x="762120" y="45720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>
            <a:hlinkClick r:id="rId5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V roce 1983 byla natočena parodie s názvem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y neříkej nik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Nikdy víc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8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">
            <a:hlinkClick r:id="rId3" action="ppaction://hlinksldjump"/>
          </p:cNvPr>
          <p:cNvSpPr/>
          <p:nvPr/>
        </p:nvSpPr>
        <p:spPr>
          <a:xfrm>
            <a:off x="762120" y="45720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762120" y="55627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50000">
              <a:srgbClr val="cc00ff"/>
            </a:gs>
            <a:gs pos="100000">
              <a:srgbClr val="00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 se jmenoval spisovatel, který vytvořil postavu Jamese Bonda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ustin Fien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mes Bon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Ian Flem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ohn Montgomer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762120" y="2743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4" action="ppaction://hlinksldjump"/>
          </p:cNvPr>
          <p:cNvSpPr/>
          <p:nvPr/>
        </p:nvSpPr>
        <p:spPr>
          <a:xfrm>
            <a:off x="762120" y="38098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5" action="ppaction://hlinksldjump"/>
          </p:cNvPr>
          <p:cNvSpPr/>
          <p:nvPr/>
        </p:nvSpPr>
        <p:spPr>
          <a:xfrm>
            <a:off x="762120" y="4876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rId6" action="ppaction://hlinksldjump"/>
          </p:cNvPr>
          <p:cNvSpPr/>
          <p:nvPr/>
        </p:nvSpPr>
        <p:spPr>
          <a:xfrm>
            <a:off x="762120" y="59436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terý z herců představujících JB je nejstarší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ean Conner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imothy Dalt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Lazenb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oger Moo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7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>
            <a:hlinkClick r:id="rId4" action="ppaction://hlinksldjump"/>
          </p:cNvPr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3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Který z herců představujících JB je nejstarší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ean Conner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George Lazenb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oger Moor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ondova šéfa M hrála v posledních pokračováních žena, její jméno je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udi Dench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eri Hatch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amantha Bon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ophia Marceau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4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Bondova šéfa M hrála v posledních pokračováních žena, její jméno je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udi Dench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Teri Hatche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29718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 se jmenuje nástupce špičkového konstruktéra Q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30481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038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66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5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 se jmenuje nástupce špičkového konstruktéra Q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br>
              <a:rPr sz="9600"/>
            </a:br>
            <a:r>
              <a:rPr b="0" lang="cs-CZ" sz="6000" spc="-1" strike="noStrike">
                <a:solidFill>
                  <a:srgbClr val="ffff00"/>
                </a:solidFill>
                <a:latin typeface="Impact"/>
              </a:rPr>
              <a:t>pokračuj zde</a:t>
            </a:r>
            <a:endParaRPr b="0" lang="en-US" sz="60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824360" cy="449604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7086600" y="579132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79" h="21600">
                <a:moveTo>
                  <a:pt x="20583" y="3794"/>
                </a:moveTo>
                <a:lnTo>
                  <a:pt x="34596" y="10800"/>
                </a:lnTo>
                <a:lnTo>
                  <a:pt x="20583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50000">
              <a:srgbClr val="cce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4038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Impact"/>
              </a:rPr>
              <a:t>ŠPATNĚ</a:t>
            </a:r>
            <a:br>
              <a:rPr sz="9600"/>
            </a:br>
            <a:r>
              <a:rPr b="1" lang="cs-CZ" sz="3600" spc="-1" strike="noStrike">
                <a:solidFill>
                  <a:srgbClr val="ffffff"/>
                </a:solidFill>
                <a:latin typeface="Impact"/>
              </a:rPr>
              <a:t>pokračuj kliknutím zde</a:t>
            </a:r>
            <a:endParaRPr b="0" lang="en-US" sz="3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400800" cy="365760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rId2" action="ppaction://hlinksldjump"/>
          </p:cNvPr>
          <p:cNvSpPr/>
          <p:nvPr/>
        </p:nvSpPr>
        <p:spPr>
          <a:xfrm>
            <a:off x="2743200" y="5867280"/>
            <a:ext cx="4191120" cy="685800"/>
          </a:xfrm>
          <a:custGeom>
            <a:avLst/>
            <a:gdLst>
              <a:gd name="textAreaLeft" fmla="*/ 129960 w 4191120"/>
              <a:gd name="textAreaRight" fmla="*/ 4061160 w 4191120"/>
              <a:gd name="textAreaTop" fmla="*/ 129960 h 685800"/>
              <a:gd name="textAreaBottom" fmla="*/ 555840 h 685800"/>
            </a:gdLst>
            <a:ahLst/>
            <a:rect l="textAreaLeft" t="textAreaTop" r="textAreaRight" b="textAreaBottom"/>
            <a:pathLst>
              <a:path w="131946" h="21600">
                <a:moveTo>
                  <a:pt x="0" y="0"/>
                </a:moveTo>
                <a:lnTo>
                  <a:pt x="131946" y="0"/>
                </a:lnTo>
                <a:lnTo>
                  <a:pt x="131946" y="21600"/>
                </a:lnTo>
                <a:lnTo>
                  <a:pt x="0" y="21600"/>
                </a:lnTo>
                <a:close/>
              </a:path>
              <a:path fill="lightenLess" w="131946" h="21600">
                <a:moveTo>
                  <a:pt x="0" y="0"/>
                </a:moveTo>
                <a:lnTo>
                  <a:pt x="131946" y="0"/>
                </a:lnTo>
                <a:lnTo>
                  <a:pt x="127846" y="4100"/>
                </a:lnTo>
                <a:lnTo>
                  <a:pt x="4100" y="4100"/>
                </a:lnTo>
                <a:close/>
              </a:path>
              <a:path fill="darken" w="131946" h="21600">
                <a:moveTo>
                  <a:pt x="131946" y="0"/>
                </a:moveTo>
                <a:lnTo>
                  <a:pt x="131946" y="21600"/>
                </a:lnTo>
                <a:lnTo>
                  <a:pt x="127846" y="17500"/>
                </a:lnTo>
                <a:lnTo>
                  <a:pt x="127846" y="4100"/>
                </a:lnTo>
                <a:close/>
              </a:path>
              <a:path fill="darkenLess" w="131946" h="21600">
                <a:moveTo>
                  <a:pt x="131946" y="21600"/>
                </a:moveTo>
                <a:lnTo>
                  <a:pt x="0" y="21600"/>
                </a:lnTo>
                <a:lnTo>
                  <a:pt x="4100" y="17500"/>
                </a:lnTo>
                <a:lnTo>
                  <a:pt x="127846" y="17500"/>
                </a:lnTo>
                <a:close/>
              </a:path>
              <a:path fill="lighten" w="131946" h="21600">
                <a:moveTo>
                  <a:pt x="0" y="21600"/>
                </a:moveTo>
                <a:lnTo>
                  <a:pt x="0" y="0"/>
                </a:lnTo>
                <a:lnTo>
                  <a:pt x="4100" y="4100"/>
                </a:lnTo>
                <a:lnTo>
                  <a:pt x="4100" y="17500"/>
                </a:lnTo>
                <a:close/>
              </a:path>
              <a:path fill="darken" w="131946" h="21600">
                <a:moveTo>
                  <a:pt x="60979" y="5806"/>
                </a:moveTo>
                <a:lnTo>
                  <a:pt x="70967" y="10800"/>
                </a:lnTo>
                <a:lnTo>
                  <a:pt x="60979" y="15794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 se jmenoval spisovatel, který vytvořil postavu Jamese Bonda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ustin Fienn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Ian Flemin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762120" y="2743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762120" y="4876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  <a:effectLst>
            <a:outerShdw dist="134955" dir="2927119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JE MI LÍTO,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tvé znalosti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jsou malé,</a:t>
            </a:r>
            <a:br>
              <a:rPr sz="9600"/>
            </a:b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začni znovu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7620120" y="4876920"/>
            <a:ext cx="1295280" cy="1447560"/>
          </a:xfrm>
          <a:custGeom>
            <a:avLst/>
            <a:gdLst>
              <a:gd name="textAreaLeft" fmla="*/ 185760 w 1295280"/>
              <a:gd name="textAreaRight" fmla="*/ 1109520 w 1295280"/>
              <a:gd name="textAreaTop" fmla="*/ 185760 h 1447560"/>
              <a:gd name="textAreaBottom" fmla="*/ 126180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18503" y="3097"/>
                </a:lnTo>
                <a:lnTo>
                  <a:pt x="3097" y="3097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18503" y="21042"/>
                </a:lnTo>
                <a:lnTo>
                  <a:pt x="18503" y="3097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3097" y="21042"/>
                </a:lnTo>
                <a:lnTo>
                  <a:pt x="18503" y="21042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3097" y="3097"/>
                </a:lnTo>
                <a:lnTo>
                  <a:pt x="3097" y="21042"/>
                </a:lnTo>
                <a:close/>
              </a:path>
              <a:path fill="darken" w="21600" h="24139">
                <a:moveTo>
                  <a:pt x="5058" y="9359"/>
                </a:moveTo>
                <a:lnTo>
                  <a:pt x="7933" y="9359"/>
                </a:lnTo>
                <a:lnTo>
                  <a:pt x="7933" y="13731"/>
                </a:lnTo>
                <a:cubicBezTo>
                  <a:pt x="7933" y="14487"/>
                  <a:pt x="8589" y="15086"/>
                  <a:pt x="9438" y="15086"/>
                </a:cubicBezTo>
                <a:lnTo>
                  <a:pt x="10800" y="15086"/>
                </a:lnTo>
                <a:cubicBezTo>
                  <a:pt x="11649" y="15086"/>
                  <a:pt x="12305" y="14487"/>
                  <a:pt x="12305" y="13731"/>
                </a:cubicBezTo>
                <a:lnTo>
                  <a:pt x="12305" y="9359"/>
                </a:lnTo>
                <a:lnTo>
                  <a:pt x="10800" y="9359"/>
                </a:lnTo>
                <a:lnTo>
                  <a:pt x="13674" y="6485"/>
                </a:lnTo>
                <a:lnTo>
                  <a:pt x="16684" y="9359"/>
                </a:lnTo>
                <a:lnTo>
                  <a:pt x="15179" y="9359"/>
                </a:lnTo>
                <a:lnTo>
                  <a:pt x="15179" y="13731"/>
                </a:lnTo>
                <a:cubicBezTo>
                  <a:pt x="15179" y="15999"/>
                  <a:pt x="13068" y="18096"/>
                  <a:pt x="10800" y="18096"/>
                </a:cubicBezTo>
                <a:lnTo>
                  <a:pt x="9438" y="18096"/>
                </a:lnTo>
                <a:cubicBezTo>
                  <a:pt x="7170" y="18096"/>
                  <a:pt x="5058" y="15999"/>
                  <a:pt x="5058" y="13731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095880"/>
          </a:xfrm>
          <a:prstGeom prst="rect">
            <a:avLst/>
          </a:prstGeom>
          <a:noFill/>
          <a:ln w="0">
            <a:noFill/>
          </a:ln>
          <a:effectLst>
            <a:outerShdw dist="188838" dir="2862256" blurRad="0" rotWithShape="0">
              <a:srgbClr val="0000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GRATULUJI !!!!!!!!!!</a:t>
            </a:r>
            <a:br>
              <a:rPr sz="9600"/>
            </a:b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outěž</a:t>
            </a:r>
            <a:br>
              <a:rPr sz="9600"/>
            </a:b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je</a:t>
            </a:r>
            <a:br>
              <a:rPr sz="9600"/>
            </a:b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u konce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629400"/>
          </a:xfrm>
          <a:prstGeom prst="rect">
            <a:avLst/>
          </a:prstGeom>
          <a:noFill/>
          <a:ln w="0">
            <a:noFill/>
          </a:ln>
          <a:effectLst>
            <a:outerShdw dist="222200" dir="7260690" blurRad="0" rotWithShape="0">
              <a:srgbClr val="d60093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ffcc00"/>
                </a:solidFill>
                <a:latin typeface="Impact"/>
              </a:rPr>
              <a:t>Námět, efekty, a výroba:</a:t>
            </a:r>
            <a:br>
              <a:rPr sz="8000"/>
            </a:br>
            <a:br>
              <a:rPr sz="8000"/>
            </a:br>
            <a:br>
              <a:rPr sz="4800"/>
            </a:br>
            <a:r>
              <a:rPr b="1" i="1" lang="cs-CZ" sz="16000" spc="-1" strike="noStrike">
                <a:solidFill>
                  <a:srgbClr val="ffcc00"/>
                </a:solidFill>
                <a:latin typeface="Impact"/>
              </a:rPr>
              <a:t>BIGLION</a:t>
            </a:r>
            <a:endParaRPr b="0" lang="en-US" sz="16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543800"/>
          </a:xfrm>
          <a:prstGeom prst="rect">
            <a:avLst/>
          </a:prstGeom>
          <a:noFill/>
          <a:ln w="0">
            <a:noFill/>
          </a:ln>
          <a:effectLst>
            <a:outerShdw dist="180599" dir="7760257" blurRad="0" rotWithShape="0">
              <a:srgbClr val="33cc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cc00"/>
                </a:solidFill>
                <a:latin typeface="Impact"/>
              </a:rPr>
              <a:t>©</a:t>
            </a:r>
            <a:r>
              <a:rPr b="0" lang="cs-CZ" sz="9600" spc="-1" strike="noStrike">
                <a:solidFill>
                  <a:srgbClr val="ffcc00"/>
                </a:solidFill>
                <a:latin typeface="Impact"/>
              </a:rPr>
              <a:t> BIGLION</a:t>
            </a:r>
            <a:br>
              <a:rPr sz="9600"/>
            </a:br>
            <a:r>
              <a:rPr b="1" lang="cs-CZ" sz="19000" spc="-1" strike="noStrike">
                <a:solidFill>
                  <a:srgbClr val="ffcc00"/>
                </a:solidFill>
                <a:latin typeface="Impact"/>
              </a:rPr>
              <a:t>2002</a:t>
            </a:r>
            <a:br>
              <a:rPr sz="9600"/>
            </a:br>
            <a:endParaRPr b="0" lang="en-US" sz="19000" spc="-1" strike="noStrike">
              <a:solidFill>
                <a:srgbClr val="ffcc00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é má JB služební označení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003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006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008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007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62120" y="28954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762120" y="502920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762120" y="60199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 rot="1800000">
            <a:off x="151920" y="152280"/>
            <a:ext cx="652680" cy="685800"/>
          </a:xfrm>
          <a:custGeom>
            <a:avLst/>
            <a:gdLst>
              <a:gd name="textAreaLeft" fmla="*/ 80280 w 652680"/>
              <a:gd name="textAreaRight" fmla="*/ 572400 w 652680"/>
              <a:gd name="textAreaTop" fmla="*/ 80280 h 685800"/>
              <a:gd name="textAreaBottom" fmla="*/ 605520 h 685800"/>
            </a:gdLst>
            <a:ahLst/>
            <a:rect l="textAreaLeft" t="textAreaTop" r="textAreaRight" b="textAreaBottom"/>
            <a:pathLst>
              <a:path w="21600" h="22695">
                <a:moveTo>
                  <a:pt x="0" y="0"/>
                </a:moveTo>
                <a:lnTo>
                  <a:pt x="21600" y="0"/>
                </a:lnTo>
                <a:lnTo>
                  <a:pt x="21600" y="22695"/>
                </a:lnTo>
                <a:lnTo>
                  <a:pt x="0" y="22695"/>
                </a:lnTo>
                <a:close/>
              </a:path>
              <a:path fill="lightenLess" w="21600" h="22695">
                <a:moveTo>
                  <a:pt x="0" y="0"/>
                </a:moveTo>
                <a:lnTo>
                  <a:pt x="21600" y="0"/>
                </a:lnTo>
                <a:lnTo>
                  <a:pt x="18937" y="2663"/>
                </a:lnTo>
                <a:lnTo>
                  <a:pt x="2663" y="2663"/>
                </a:lnTo>
                <a:close/>
              </a:path>
              <a:path fill="darken" w="21600" h="22695">
                <a:moveTo>
                  <a:pt x="21600" y="0"/>
                </a:moveTo>
                <a:lnTo>
                  <a:pt x="21600" y="22695"/>
                </a:lnTo>
                <a:lnTo>
                  <a:pt x="18937" y="20032"/>
                </a:lnTo>
                <a:lnTo>
                  <a:pt x="18937" y="2663"/>
                </a:lnTo>
                <a:close/>
              </a:path>
              <a:path fill="darkenLess" w="21600" h="22695">
                <a:moveTo>
                  <a:pt x="21600" y="22695"/>
                </a:moveTo>
                <a:lnTo>
                  <a:pt x="0" y="22695"/>
                </a:lnTo>
                <a:lnTo>
                  <a:pt x="2663" y="20032"/>
                </a:lnTo>
                <a:lnTo>
                  <a:pt x="18937" y="20032"/>
                </a:lnTo>
                <a:close/>
              </a:path>
              <a:path fill="lighten" w="21600" h="22695">
                <a:moveTo>
                  <a:pt x="0" y="22695"/>
                </a:moveTo>
                <a:lnTo>
                  <a:pt x="0" y="0"/>
                </a:lnTo>
                <a:lnTo>
                  <a:pt x="2663" y="2663"/>
                </a:lnTo>
                <a:lnTo>
                  <a:pt x="2663" y="20032"/>
                </a:lnTo>
                <a:close/>
              </a:path>
              <a:path fill="darken" w="21600" h="22695">
                <a:moveTo>
                  <a:pt x="10800" y="5283"/>
                </a:moveTo>
                <a:arcTo wR="6065" hR="6065" stAng="16200000" swAng="-5400000"/>
                <a:arcTo wR="6065" hR="6065" stAng="10800000" swAng="-5400000"/>
                <a:arcTo wR="6065" hR="6065" stAng="5400000" swAng="-5400000"/>
                <a:arcTo wR="6065" hR="6065" stAng="0" swAng="-5400000"/>
                <a:close/>
              </a:path>
              <a:path fill="lighten" w="21600" h="22695">
                <a:moveTo>
                  <a:pt x="10800" y="5607"/>
                </a:moveTo>
                <a:arcTo wR="1552" hR="1552" stAng="16200000" swAng="-5400000"/>
                <a:arcTo wR="1552" hR="1552" stAng="10800000" swAng="-5400000"/>
                <a:arcTo wR="1552" hR="1552" stAng="5400000" swAng="-5400000"/>
                <a:arcTo wR="1552" hR="1552" stAng="0" swAng="-5400000"/>
                <a:close/>
              </a:path>
              <a:path fill="lighten" w="21600" h="22695">
                <a:moveTo>
                  <a:pt x="8570" y="9118"/>
                </a:moveTo>
                <a:lnTo>
                  <a:pt x="11915" y="9118"/>
                </a:lnTo>
                <a:lnTo>
                  <a:pt x="11915" y="15175"/>
                </a:lnTo>
                <a:lnTo>
                  <a:pt x="13030" y="15175"/>
                </a:lnTo>
                <a:lnTo>
                  <a:pt x="13030" y="15974"/>
                </a:lnTo>
                <a:lnTo>
                  <a:pt x="8570" y="15974"/>
                </a:lnTo>
                <a:lnTo>
                  <a:pt x="8570" y="15175"/>
                </a:lnTo>
                <a:lnTo>
                  <a:pt x="9685" y="15175"/>
                </a:lnTo>
                <a:lnTo>
                  <a:pt x="9685" y="9901"/>
                </a:lnTo>
                <a:lnTo>
                  <a:pt x="8570" y="9901"/>
                </a:lnTo>
                <a:close/>
              </a:path>
            </a:pathLst>
          </a:custGeom>
          <a:noFill/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50000">
              <a:srgbClr val="cc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95320" y="228600"/>
            <a:ext cx="304812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cc00"/>
                </a:solidFill>
                <a:latin typeface="Impact"/>
              </a:rPr>
              <a:t>OTÁZKA </a:t>
            </a:r>
            <a:endParaRPr b="0" lang="en-US" sz="72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772400" y="228600"/>
            <a:ext cx="966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Jaké má JB služební označení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006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775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Impact"/>
              </a:rPr>
              <a:t>007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762120" y="396252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762120" y="5867280"/>
            <a:ext cx="1295280" cy="685800"/>
          </a:xfrm>
          <a:custGeom>
            <a:avLst/>
            <a:gdLst>
              <a:gd name="textAreaLeft" fmla="*/ 99720 w 1295280"/>
              <a:gd name="textAreaRight" fmla="*/ 1195560 w 1295280"/>
              <a:gd name="textAreaTop" fmla="*/ 99720 h 685800"/>
              <a:gd name="textAreaBottom" fmla="*/ 58608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7636" y="3150"/>
                </a:lnTo>
                <a:lnTo>
                  <a:pt x="3150" y="315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7636" y="18450"/>
                </a:lnTo>
                <a:lnTo>
                  <a:pt x="37636" y="315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37636" y="1845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</a:pathLst>
          </a:cu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ffff00"/>
                </a:solidFill>
                <a:latin typeface="Impact"/>
              </a:rPr>
              <a:t>SPRÁVNĚ</a:t>
            </a:r>
            <a:endParaRPr b="0" lang="en-US" sz="9600" spc="-1" strike="noStrike">
              <a:solidFill>
                <a:srgbClr val="ffcc00"/>
              </a:solidFill>
              <a:latin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057400" y="380880"/>
            <a:ext cx="4824360" cy="449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18:38:18Z</dcterms:created>
  <dc:creator>BIGLION</dc:creator>
  <dc:description/>
  <dc:language>en-US</dc:language>
  <cp:lastModifiedBy>Ja</cp:lastModifiedBy>
  <dcterms:modified xsi:type="dcterms:W3CDTF">2002-06-04T17:32:58Z</dcterms:modified>
  <cp:revision>76</cp:revision>
  <dc:subject/>
  <dc:title>KVÍZ - JAMES BOND</dc:title>
</cp:coreProperties>
</file>