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3F3A-C383-4F95-9D9F-32815153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C274-8720-448D-9417-3F28E723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F720-9A4E-4181-AC21-63253BBF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90C9-96EA-4124-97DE-E103A8D6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3AD3-EE6C-4C05-A859-1CE81B26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8336-53C0-4FD0-AD2D-7DE66C74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792A-2180-411E-BFDE-2565196B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A701-654A-40A0-A179-BE082959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1255-EE15-4BB0-AD5C-E931296C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77724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8618-7725-4C7D-A389-6B9FACAB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461C-E7E6-4E49-A874-5474DDDB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43E4-CCBC-4BF0-912C-E91936AB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9721-0FD4-4C5F-8BC9-C9EE8ADE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C955-BC09-44B6-8952-07E529B6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14DB-2B52-4B48-817B-59223AAB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79AB-76A2-435E-A971-C54C846C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DEED-ADD8-4FC7-A226-60AFCBB9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4B6-77B0-4646-9501-5FA40E70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F93A-212B-4EE0-9475-A4BEB66B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1089-3289-4ACA-8BD0-D91F2B74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77724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C013-7A89-4013-A89B-8DC0AC1A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5F3C-D17E-4211-B31D-0F63EFFD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A965-7A1C-4300-BE8D-97D4B662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E70B-0698-45CE-8D94-1965799C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d60093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2D0E-0A92-43EC-A7DF-CB95AA262B10}" type="slidenum">
              <a:rPr b="0" lang="en-CA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c33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cc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9966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A3EC-948F-4E77-93A4-6E79974778DE}" type="slidenum">
              <a:rPr b="0" lang="en-CA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c33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cc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49.xml"/><Relationship Id="rId5" Type="http://schemas.openxmlformats.org/officeDocument/2006/relationships/slide" Target="slide12.xml"/><Relationship Id="rId6" Type="http://schemas.openxmlformats.org/officeDocument/2006/relationships/slide" Target="slide49.xm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15.xml"/><Relationship Id="rId5" Type="http://schemas.openxmlformats.org/officeDocument/2006/relationships/slide" Target="slide49.xml"/><Relationship Id="rId6" Type="http://schemas.openxmlformats.org/officeDocument/2006/relationships/slide" Target="slide49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18.xml"/><Relationship Id="rId4" Type="http://schemas.openxmlformats.org/officeDocument/2006/relationships/slide" Target="slide49.xml"/><Relationship Id="rId5" Type="http://schemas.openxmlformats.org/officeDocument/2006/relationships/slide" Target="slide49.xml"/><Relationship Id="rId6" Type="http://schemas.openxmlformats.org/officeDocument/2006/relationships/slide" Target="slide49.xml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18.xml"/><Relationship Id="rId4" Type="http://schemas.openxmlformats.org/officeDocument/2006/relationships/slide" Target="slide49.xml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49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24.xml"/><Relationship Id="rId5" Type="http://schemas.openxmlformats.org/officeDocument/2006/relationships/slide" Target="slide49.xml"/><Relationship Id="rId6" Type="http://schemas.openxmlformats.org/officeDocument/2006/relationships/slide" Target="slide49.xml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4.xml"/><Relationship Id="rId4" Type="http://schemas.openxmlformats.org/officeDocument/2006/relationships/slide" Target="slide49.xml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49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30.xml"/><Relationship Id="rId5" Type="http://schemas.openxmlformats.org/officeDocument/2006/relationships/slide" Target="slide49.xml"/><Relationship Id="rId6" Type="http://schemas.openxmlformats.org/officeDocument/2006/relationships/slide" Target="slide49.xml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30.xml"/><Relationship Id="rId4" Type="http://schemas.openxmlformats.org/officeDocument/2006/relationships/slide" Target="slide49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33.xml"/><Relationship Id="rId4" Type="http://schemas.openxmlformats.org/officeDocument/2006/relationships/slide" Target="slide49.xml"/><Relationship Id="rId5" Type="http://schemas.openxmlformats.org/officeDocument/2006/relationships/slide" Target="slide49.xml"/><Relationship Id="rId6" Type="http://schemas.openxmlformats.org/officeDocument/2006/relationships/slide" Target="slide49.xml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33.xml"/><Relationship Id="rId4" Type="http://schemas.openxmlformats.org/officeDocument/2006/relationships/slide" Target="slide49.xml"/><Relationship Id="rId5" Type="http://schemas.openxmlformats.org/officeDocument/2006/relationships/slide" Target="slide49.xml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49.xml"/><Relationship Id="rId5" Type="http://schemas.openxmlformats.org/officeDocument/2006/relationships/slide" Target="slide49.xml"/><Relationship Id="rId6" Type="http://schemas.openxmlformats.org/officeDocument/2006/relationships/slide" Target="slide36.xml"/><Relationship Id="rId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49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slide" Target="slide49.xml"/><Relationship Id="rId5" Type="http://schemas.openxmlformats.org/officeDocument/2006/relationships/slide" Target="slide49.xml"/><Relationship Id="rId6" Type="http://schemas.openxmlformats.org/officeDocument/2006/relationships/slide" Target="slide49.xml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2.xml"/><Relationship Id="rId4" Type="http://schemas.openxmlformats.org/officeDocument/2006/relationships/slide" Target="slide49.xml"/><Relationship Id="rId5" Type="http://schemas.openxmlformats.org/officeDocument/2006/relationships/slide" Target="slide49.xml"/><Relationship Id="rId6" Type="http://schemas.openxmlformats.org/officeDocument/2006/relationships/slide" Target="slide49.xml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45.xml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49.xml"/><Relationship Id="rId5" Type="http://schemas.openxmlformats.org/officeDocument/2006/relationships/slide" Target="slide48.xml"/><Relationship Id="rId6" Type="http://schemas.openxmlformats.org/officeDocument/2006/relationships/slide" Target="slide49.xml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slide" Target="slide49.xml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.xml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9.xml"/><Relationship Id="rId5" Type="http://schemas.openxmlformats.org/officeDocument/2006/relationships/slide" Target="slide49.xml"/><Relationship Id="rId6" Type="http://schemas.openxmlformats.org/officeDocument/2006/relationships/slide" Target="slide49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9.xml"/><Relationship Id="rId4" Type="http://schemas.openxmlformats.org/officeDocument/2006/relationships/slide" Target="slide49.xm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393b"/>
            </a:gs>
            <a:gs pos="50000">
              <a:srgbClr val="ff7c80"/>
            </a:gs>
            <a:gs pos="100000">
              <a:srgbClr val="75393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0880" y="0"/>
            <a:ext cx="8305920" cy="6019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25751" dir="18900000" blurRad="0" rotWithShape="0">
                    <a:srgbClr val="ff0066"/>
                  </a:outerShdw>
                </a:effectLst>
                <a:latin typeface="Impact"/>
              </a:rPr>
              <a:t>BIGLIO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25751" dir="18900000" blurRad="0" rotWithShape="0">
                  <a:srgbClr val="ff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590920" y="5105520"/>
            <a:ext cx="472428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uvád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3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ffff00"/>
              </a:buClr>
              <a:buSzPct val="12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Proslavil se rolí vesmírného pašeráka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Paula Atreid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Luka Skywolker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Hana Sol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Johna Sherydan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9" name="">
            <a:hlinkClick r:id="rId3" action="ppaction://hlinksldjump"/>
          </p:cNvPr>
          <p:cNvSpPr/>
          <p:nvPr/>
        </p:nvSpPr>
        <p:spPr>
          <a:xfrm>
            <a:off x="762120" y="2895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762120" y="39625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>
            <a:hlinkClick r:id="rId5" action="ppaction://hlinksldjump"/>
          </p:cNvPr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>
            <a:hlinkClick r:id="rId6" action="ppaction://hlinksldjump"/>
          </p:cNvPr>
          <p:cNvSpPr/>
          <p:nvPr/>
        </p:nvSpPr>
        <p:spPr>
          <a:xfrm>
            <a:off x="762120" y="6019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3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ff00"/>
              </a:buClr>
              <a:buSzPct val="12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Proslavil se rolí vesmírného pašeráka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Luka Skywolker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Hana Sol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29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7" name="">
            <a:hlinkClick r:id="rId3" action="ppaction://hlinksldjump"/>
          </p:cNvPr>
          <p:cNvSpPr/>
          <p:nvPr/>
        </p:nvSpPr>
        <p:spPr>
          <a:xfrm>
            <a:off x="762120" y="39625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>
            <a:hlinkClick r:id="rId4" action="ppaction://hlinksldjump"/>
          </p:cNvPr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ff0066"/>
            </a:gs>
            <a:gs pos="100000">
              <a:srgbClr val="99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4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ffff00"/>
              </a:buClr>
              <a:buSzPct val="12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Ve sci-fi trilogii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Star Trek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Hvězdné války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Babylon 5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Dun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4" name="">
            <a:hlinkClick r:id="rId3" action="ppaction://hlinksldjump"/>
          </p:cNvPr>
          <p:cNvSpPr/>
          <p:nvPr/>
        </p:nvSpPr>
        <p:spPr>
          <a:xfrm>
            <a:off x="762120" y="2895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>
            <a:hlinkClick r:id="rId4" action="ppaction://hlinksldjump"/>
          </p:cNvPr>
          <p:cNvSpPr/>
          <p:nvPr/>
        </p:nvSpPr>
        <p:spPr>
          <a:xfrm>
            <a:off x="762120" y="39625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>
            <a:hlinkClick r:id="rId5" action="ppaction://hlinksldjump"/>
          </p:cNvPr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>
            <a:hlinkClick r:id="rId6" action="ppaction://hlinksldjump"/>
          </p:cNvPr>
          <p:cNvSpPr/>
          <p:nvPr/>
        </p:nvSpPr>
        <p:spPr>
          <a:xfrm>
            <a:off x="762120" y="6019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4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Ve sci-fi trilogii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Star Trek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Hvězdné války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762120" y="2895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>
            <a:hlinkClick r:id="rId4" action="ppaction://hlinksldjump"/>
          </p:cNvPr>
          <p:cNvSpPr/>
          <p:nvPr/>
        </p:nvSpPr>
        <p:spPr>
          <a:xfrm>
            <a:off x="762120" y="39625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ff0066"/>
            </a:gs>
            <a:gs pos="100000">
              <a:srgbClr val="99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5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Režiséra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George Lucas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Stevena Spielberg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Roberta Zemekis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George Cameron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9" name="">
            <a:hlinkClick r:id="rId3" action="ppaction://hlinksldjump"/>
          </p:cNvPr>
          <p:cNvSpPr/>
          <p:nvPr/>
        </p:nvSpPr>
        <p:spPr>
          <a:xfrm>
            <a:off x="762120" y="2895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>
            <a:hlinkClick r:id="rId4" action="ppaction://hlinksldjump"/>
          </p:cNvPr>
          <p:cNvSpPr/>
          <p:nvPr/>
        </p:nvSpPr>
        <p:spPr>
          <a:xfrm>
            <a:off x="762120" y="3886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>
            <a:hlinkClick r:id="rId5" action="ppaction://hlinksldjump"/>
          </p:cNvPr>
          <p:cNvSpPr/>
          <p:nvPr/>
        </p:nvSpPr>
        <p:spPr>
          <a:xfrm>
            <a:off x="762120" y="49528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>
            <a:hlinkClick r:id="rId6" action="ppaction://hlinksldjump"/>
          </p:cNvPr>
          <p:cNvSpPr/>
          <p:nvPr/>
        </p:nvSpPr>
        <p:spPr>
          <a:xfrm>
            <a:off x="762120" y="59436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5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Režiséra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811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811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George Lucas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811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811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811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811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811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George Cameron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762120" y="2895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>
            <a:hlinkClick r:id="rId4" action="ppaction://hlinksldjump"/>
          </p:cNvPr>
          <p:cNvSpPr/>
          <p:nvPr/>
        </p:nvSpPr>
        <p:spPr>
          <a:xfrm>
            <a:off x="762120" y="58672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ff0066"/>
            </a:gs>
            <a:gs pos="100000">
              <a:srgbClr val="99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6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ffff00"/>
              </a:buClr>
              <a:buSzPct val="12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Podobnou postavu vytvořil i jako archeolog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Doktor Jon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Henry Jon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Indiana Jon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Henry Jones st.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4" name="">
            <a:hlinkClick r:id="rId3" action="ppaction://hlinksldjump"/>
          </p:cNvPr>
          <p:cNvSpPr/>
          <p:nvPr/>
        </p:nvSpPr>
        <p:spPr>
          <a:xfrm>
            <a:off x="762120" y="2895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>
            <a:hlinkClick r:id="rId4" action="ppaction://hlinksldjump"/>
          </p:cNvPr>
          <p:cNvSpPr/>
          <p:nvPr/>
        </p:nvSpPr>
        <p:spPr>
          <a:xfrm>
            <a:off x="762120" y="39625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rId5" action="ppaction://hlinksldjump"/>
          </p:cNvPr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>
            <a:hlinkClick r:id="rId6" action="ppaction://hlinksldjump"/>
          </p:cNvPr>
          <p:cNvSpPr/>
          <p:nvPr/>
        </p:nvSpPr>
        <p:spPr>
          <a:xfrm>
            <a:off x="762120" y="6019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-838080"/>
            <a:ext cx="8686800" cy="7696080"/>
          </a:xfrm>
          <a:prstGeom prst="rect">
            <a:avLst/>
          </a:prstGeom>
          <a:noFill/>
          <a:ln w="0">
            <a:noFill/>
          </a:ln>
          <a:effectLst>
            <a:outerShdw dist="171040" dir="2879153" blurRad="0" rotWithShape="0">
              <a:srgbClr val="d60093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00ff00"/>
                </a:solidFill>
                <a:latin typeface="Impact"/>
              </a:rPr>
              <a:t>KVÍZ</a:t>
            </a:r>
            <a:br>
              <a:rPr sz="9600"/>
            </a:br>
            <a:r>
              <a:rPr b="1" lang="cs-CZ" sz="9600" spc="-1" strike="noStrike">
                <a:solidFill>
                  <a:srgbClr val="ffcc00"/>
                </a:solidFill>
                <a:latin typeface="Impact"/>
              </a:rPr>
              <a:t>HARRISON</a:t>
            </a:r>
            <a:br>
              <a:rPr sz="3200"/>
            </a:br>
            <a:r>
              <a:rPr b="1" lang="cs-CZ" sz="9600" spc="-1" strike="noStrike">
                <a:solidFill>
                  <a:srgbClr val="ffcc00"/>
                </a:solidFill>
                <a:latin typeface="Impact"/>
              </a:rPr>
              <a:t> </a:t>
            </a:r>
            <a:r>
              <a:rPr b="1" lang="cs-CZ" sz="11000" spc="-1" strike="noStrike">
                <a:solidFill>
                  <a:srgbClr val="9966ff"/>
                </a:solidFill>
                <a:latin typeface="Impact"/>
              </a:rPr>
              <a:t>F </a:t>
            </a:r>
            <a:r>
              <a:rPr b="1" lang="cs-CZ" sz="9600" spc="-1" strike="noStrike">
                <a:solidFill>
                  <a:srgbClr val="9966ff"/>
                </a:solidFill>
                <a:latin typeface="Impact"/>
              </a:rPr>
              <a:t>       </a:t>
            </a:r>
            <a:r>
              <a:rPr b="1" lang="cs-CZ" sz="11000" spc="-1" strike="noStrike">
                <a:solidFill>
                  <a:srgbClr val="9966ff"/>
                </a:solidFill>
                <a:latin typeface="Impact"/>
              </a:rPr>
              <a:t>O</a:t>
            </a:r>
            <a:r>
              <a:rPr b="1" lang="cs-CZ" sz="9600" spc="-1" strike="noStrike">
                <a:solidFill>
                  <a:srgbClr val="9966ff"/>
                </a:solidFill>
                <a:latin typeface="Impact"/>
              </a:rPr>
              <a:t>        </a:t>
            </a:r>
            <a:r>
              <a:rPr b="1" lang="cs-CZ" sz="11000" spc="-1" strike="noStrike">
                <a:solidFill>
                  <a:srgbClr val="9966ff"/>
                </a:solidFill>
                <a:latin typeface="Impact"/>
              </a:rPr>
              <a:t>R</a:t>
            </a:r>
            <a:r>
              <a:rPr b="1" lang="cs-CZ" sz="9600" spc="-1" strike="noStrike">
                <a:solidFill>
                  <a:srgbClr val="9966ff"/>
                </a:solidFill>
                <a:latin typeface="Impact"/>
              </a:rPr>
              <a:t>         </a:t>
            </a:r>
            <a:r>
              <a:rPr b="1" lang="cs-CZ" sz="11000" spc="-1" strike="noStrike">
                <a:solidFill>
                  <a:srgbClr val="9966ff"/>
                </a:solidFill>
                <a:latin typeface="Impact"/>
              </a:rPr>
              <a:t>D</a:t>
            </a:r>
            <a:endParaRPr b="0" lang="en-US" sz="110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677520" y="533520"/>
            <a:ext cx="1447560" cy="1447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6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12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Podobnou postavu vytvořil i jako archeolog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Doktor Jon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Henry Jon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Indiana Jon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2" name="">
            <a:hlinkClick r:id="rId3" action="ppaction://hlinksldjump"/>
          </p:cNvPr>
          <p:cNvSpPr/>
          <p:nvPr/>
        </p:nvSpPr>
        <p:spPr>
          <a:xfrm>
            <a:off x="762120" y="2895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4" action="ppaction://hlinksldjump"/>
          </p:cNvPr>
          <p:cNvSpPr/>
          <p:nvPr/>
        </p:nvSpPr>
        <p:spPr>
          <a:xfrm>
            <a:off x="762120" y="39625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>
            <a:hlinkClick r:id="rId5" action="ppaction://hlinksldjump"/>
          </p:cNvPr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ff0066"/>
            </a:gs>
            <a:gs pos="100000">
              <a:srgbClr val="99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7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ffff00"/>
              </a:buClr>
              <a:buSzPct val="12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V trilogii režiséra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George Lucas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43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Stevena Spielberg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43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Roberta Zemekis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George Cameron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0" name="">
            <a:hlinkClick r:id="rId3" action="ppaction://hlinksldjump"/>
          </p:cNvPr>
          <p:cNvSpPr/>
          <p:nvPr/>
        </p:nvSpPr>
        <p:spPr>
          <a:xfrm>
            <a:off x="762120" y="2895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rId4" action="ppaction://hlinksldjump"/>
          </p:cNvPr>
          <p:cNvSpPr/>
          <p:nvPr/>
        </p:nvSpPr>
        <p:spPr>
          <a:xfrm>
            <a:off x="762120" y="39625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>
            <a:hlinkClick r:id="rId5" action="ppaction://hlinksldjump"/>
          </p:cNvPr>
          <p:cNvSpPr/>
          <p:nvPr/>
        </p:nvSpPr>
        <p:spPr>
          <a:xfrm>
            <a:off x="762120" y="49528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>
            <a:hlinkClick r:id="rId6" action="ppaction://hlinksldjump"/>
          </p:cNvPr>
          <p:cNvSpPr/>
          <p:nvPr/>
        </p:nvSpPr>
        <p:spPr>
          <a:xfrm>
            <a:off x="762120" y="59436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7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ffff00"/>
              </a:buClr>
              <a:buSzPct val="12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V trilogii režiséra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43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Stevena Spielberg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43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George Cameron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8" name="">
            <a:hlinkClick r:id="rId3" action="ppaction://hlinksldjump"/>
          </p:cNvPr>
          <p:cNvSpPr/>
          <p:nvPr/>
        </p:nvSpPr>
        <p:spPr>
          <a:xfrm>
            <a:off x="762120" y="39625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>
            <a:hlinkClick r:id="rId4" action="ppaction://hlinksldjump"/>
          </p:cNvPr>
          <p:cNvSpPr/>
          <p:nvPr/>
        </p:nvSpPr>
        <p:spPr>
          <a:xfrm>
            <a:off x="762120" y="59436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ff0066"/>
            </a:gs>
            <a:gs pos="100000">
              <a:srgbClr val="99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8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028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Tento film však nebyl natočen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Impact"/>
              </a:rPr>
              <a:t>Indiana Jones a Chrám zkáz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Impact"/>
              </a:rPr>
              <a:t>Indiana Jones a poslední křížová výprav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Impact"/>
              </a:rPr>
              <a:t>Indiana Jones a poklad Faraónů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08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8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5" name="">
            <a:hlinkClick r:id="rId3" action="ppaction://hlinksldjump"/>
          </p:cNvPr>
          <p:cNvSpPr/>
          <p:nvPr/>
        </p:nvSpPr>
        <p:spPr>
          <a:xfrm>
            <a:off x="762120" y="35812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>
            <a:hlinkClick r:id="rId4" action="ppaction://hlinksldjump"/>
          </p:cNvPr>
          <p:cNvSpPr/>
          <p:nvPr/>
        </p:nvSpPr>
        <p:spPr>
          <a:xfrm>
            <a:off x="762120" y="45720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>
            <a:hlinkClick r:id="rId5" action="ppaction://hlinksldjump"/>
          </p:cNvPr>
          <p:cNvSpPr/>
          <p:nvPr/>
        </p:nvSpPr>
        <p:spPr>
          <a:xfrm>
            <a:off x="762120" y="55627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8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028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Tento film však nebyl natočen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Impact"/>
              </a:rPr>
              <a:t>Indiana Jones a Chrám zkáz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Impact"/>
              </a:rPr>
              <a:t>Indiana Jones a poklad Faraónů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08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8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2" name="">
            <a:hlinkClick r:id="rId3" action="ppaction://hlinksldjump"/>
          </p:cNvPr>
          <p:cNvSpPr/>
          <p:nvPr/>
        </p:nvSpPr>
        <p:spPr>
          <a:xfrm>
            <a:off x="762120" y="35812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>
            <a:hlinkClick r:id="rId4" action="ppaction://hlinksldjump"/>
          </p:cNvPr>
          <p:cNvSpPr/>
          <p:nvPr/>
        </p:nvSpPr>
        <p:spPr>
          <a:xfrm>
            <a:off x="762120" y="55627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ff0066"/>
            </a:gs>
            <a:gs pos="100000">
              <a:srgbClr val="99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9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028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Do trilogie patří tento film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Dobyvatelé ztracených lovišť</a:t>
            </a:r>
            <a:r>
              <a:rPr b="0" lang="cs-CZ" sz="32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Dobyvatelé ztracené archy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43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Dobyvatelé starých chrámů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43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Dobyvatelé temnoty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9" name="">
            <a:hlinkClick r:id="rId3" action="ppaction://hlinksldjump"/>
          </p:cNvPr>
          <p:cNvSpPr/>
          <p:nvPr/>
        </p:nvSpPr>
        <p:spPr>
          <a:xfrm>
            <a:off x="762120" y="29718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>
            <a:hlinkClick r:id="rId4" action="ppaction://hlinksldjump"/>
          </p:cNvPr>
          <p:cNvSpPr/>
          <p:nvPr/>
        </p:nvSpPr>
        <p:spPr>
          <a:xfrm>
            <a:off x="762120" y="39625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rId5" action="ppaction://hlinksldjump"/>
          </p:cNvPr>
          <p:cNvSpPr/>
          <p:nvPr/>
        </p:nvSpPr>
        <p:spPr>
          <a:xfrm>
            <a:off x="762120" y="49528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>
            <a:hlinkClick r:id="rId6" action="ppaction://hlinksldjump"/>
          </p:cNvPr>
          <p:cNvSpPr/>
          <p:nvPr/>
        </p:nvSpPr>
        <p:spPr>
          <a:xfrm>
            <a:off x="762120" y="59436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9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028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Do trilogie patří tento film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Dobyvatelé ztracené archy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Dobyvatelé starých chrámů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7" name="">
            <a:hlinkClick r:id="rId3" action="ppaction://hlinksldjump"/>
          </p:cNvPr>
          <p:cNvSpPr/>
          <p:nvPr/>
        </p:nvSpPr>
        <p:spPr>
          <a:xfrm>
            <a:off x="762120" y="39625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>
            <a:hlinkClick r:id="rId4" action="ppaction://hlinksldjump"/>
          </p:cNvPr>
          <p:cNvSpPr/>
          <p:nvPr/>
        </p:nvSpPr>
        <p:spPr>
          <a:xfrm>
            <a:off x="762120" y="49528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5393b"/>
            </a:gs>
            <a:gs pos="50000">
              <a:srgbClr val="ff7c80"/>
            </a:gs>
            <a:gs pos="100000">
              <a:srgbClr val="75393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33520" y="304920"/>
            <a:ext cx="24382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ravidla: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Impact"/>
              </a:rPr>
              <a:t>1.  Pro odpověď klikněte do pole s písmenem A, B, C nebo D</a:t>
            </a:r>
            <a:br>
              <a:rPr sz="4400"/>
            </a:br>
            <a:r>
              <a:rPr b="0" lang="cs-CZ" sz="4400" spc="-1" strike="noStrike">
                <a:solidFill>
                  <a:srgbClr val="00ff00"/>
                </a:solidFill>
                <a:latin typeface="Impact"/>
              </a:rPr>
              <a:t>2. Pokud si nejste jisti, klikněte na volné místo, objeví se nápověda, pak klikněte na ni </a:t>
            </a:r>
            <a:br>
              <a:rPr sz="4400"/>
            </a:br>
            <a:r>
              <a:rPr b="0" lang="cs-CZ" sz="4400" spc="-1" strike="noStrike">
                <a:solidFill>
                  <a:srgbClr val="ffcc00"/>
                </a:solidFill>
                <a:latin typeface="Impact"/>
              </a:rPr>
              <a:t>3. Pokud ani potom neuspějete, není vám pomoci, začínáte znovu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ff0066"/>
            </a:gs>
            <a:gs pos="100000">
              <a:srgbClr val="99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0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028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ffff00"/>
              </a:buClr>
              <a:buSzPct val="12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Ve kterém filmu vytvořil  HF  postavu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detektiva Ricka Deckarda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Blade Runner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Svědek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Podezření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Výslech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4" name="">
            <a:hlinkClick r:id="rId3" action="ppaction://hlinksldjump"/>
          </p:cNvPr>
          <p:cNvSpPr/>
          <p:nvPr/>
        </p:nvSpPr>
        <p:spPr>
          <a:xfrm>
            <a:off x="762120" y="30481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>
            <a:hlinkClick r:id="rId4" action="ppaction://hlinksldjump"/>
          </p:cNvPr>
          <p:cNvSpPr/>
          <p:nvPr/>
        </p:nvSpPr>
        <p:spPr>
          <a:xfrm>
            <a:off x="762120" y="4038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>
            <a:hlinkClick r:id="rId5" action="ppaction://hlinksldjump"/>
          </p:cNvPr>
          <p:cNvSpPr/>
          <p:nvPr/>
        </p:nvSpPr>
        <p:spPr>
          <a:xfrm>
            <a:off x="762120" y="6019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>
            <a:hlinkClick r:id="rId6" action="ppaction://hlinksldjump"/>
          </p:cNvPr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0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028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ff00"/>
              </a:buClr>
              <a:buSzPct val="12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Ve kterém filmu vytvořil  HF  postavu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detektiva Ricka Deckarda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Blade Runner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326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Svědek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326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Podezření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326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2" name="">
            <a:hlinkClick r:id="rId3" action="ppaction://hlinksldjump"/>
          </p:cNvPr>
          <p:cNvSpPr/>
          <p:nvPr/>
        </p:nvSpPr>
        <p:spPr>
          <a:xfrm>
            <a:off x="762120" y="30481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>
            <a:hlinkClick r:id="rId4" action="ppaction://hlinksldjump"/>
          </p:cNvPr>
          <p:cNvSpPr/>
          <p:nvPr/>
        </p:nvSpPr>
        <p:spPr>
          <a:xfrm>
            <a:off x="762120" y="4038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>
            <a:hlinkClick r:id="rId5" action="ppaction://hlinksldjump"/>
          </p:cNvPr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ff0066"/>
            </a:gs>
            <a:gs pos="100000">
              <a:srgbClr val="99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1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10287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ffff00"/>
              </a:buClr>
              <a:buSzPct val="12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Zahrál si také s mnoha filmovými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hvězdami, s kým ale nikoliv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Sigourney Weaver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Tommy Lee Jonesem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Seanem Connerym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Antonio Banderasem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0" name="">
            <a:hlinkClick r:id="rId3" action="ppaction://hlinksldjump"/>
          </p:cNvPr>
          <p:cNvSpPr/>
          <p:nvPr/>
        </p:nvSpPr>
        <p:spPr>
          <a:xfrm>
            <a:off x="762120" y="29718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>
            <a:hlinkClick r:id="rId4" action="ppaction://hlinksldjump"/>
          </p:cNvPr>
          <p:cNvSpPr/>
          <p:nvPr/>
        </p:nvSpPr>
        <p:spPr>
          <a:xfrm>
            <a:off x="762120" y="39625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rId5" action="ppaction://hlinksldjump"/>
          </p:cNvPr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>
            <a:hlinkClick r:id="rId6" action="ppaction://hlinksldjump"/>
          </p:cNvPr>
          <p:cNvSpPr/>
          <p:nvPr/>
        </p:nvSpPr>
        <p:spPr>
          <a:xfrm>
            <a:off x="762120" y="6019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1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10287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ffff00"/>
              </a:buClr>
              <a:buSzPct val="12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Zahrál si také s mnoha filmovými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75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hvězdami, s kým ale nikoliv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Sigourney Weaver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Antonio Banderasem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8" name="">
            <a:hlinkClick r:id="rId3" action="ppaction://hlinksldjump"/>
          </p:cNvPr>
          <p:cNvSpPr/>
          <p:nvPr/>
        </p:nvSpPr>
        <p:spPr>
          <a:xfrm>
            <a:off x="762120" y="29718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2120" y="6019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ff0066"/>
            </a:gs>
            <a:gs pos="100000">
              <a:srgbClr val="99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2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028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ffff00"/>
              </a:buClr>
              <a:buSzPct val="12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Dva filmy měli ještě jedno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pokračování, který to nebyl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Vysoká hra patriotů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Uprchlík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Podnikavá dívk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5" name="">
            <a:hlinkClick r:id="rId3" action="ppaction://hlinksldjump"/>
          </p:cNvPr>
          <p:cNvSpPr/>
          <p:nvPr/>
        </p:nvSpPr>
        <p:spPr>
          <a:xfrm>
            <a:off x="762120" y="35812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>
            <a:hlinkClick r:id="rId4" action="ppaction://hlinksldjump"/>
          </p:cNvPr>
          <p:cNvSpPr/>
          <p:nvPr/>
        </p:nvSpPr>
        <p:spPr>
          <a:xfrm>
            <a:off x="762120" y="45720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>
            <a:hlinkClick r:id="rId5" action="ppaction://hlinksldjump"/>
          </p:cNvPr>
          <p:cNvSpPr/>
          <p:nvPr/>
        </p:nvSpPr>
        <p:spPr>
          <a:xfrm>
            <a:off x="762120" y="55627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2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028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ffff00"/>
              </a:buClr>
              <a:buSzPct val="12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Dva filmy měli ještě jedno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pokračování, který to nebyl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Uprchlík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Podnikavá dívk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2" name=""/>
          <p:cNvSpPr/>
          <p:nvPr/>
        </p:nvSpPr>
        <p:spPr>
          <a:xfrm>
            <a:off x="762120" y="45720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55627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ff0066"/>
            </a:gs>
            <a:gs pos="100000">
              <a:srgbClr val="99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ffff00"/>
              </a:buClr>
              <a:buSzPct val="12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Americký herec Harrison Ford se narodil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13. 7. 1942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15. 8. 1952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18. 9. 1932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258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11. 6. 1922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762120" y="2743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rId4" action="ppaction://hlinksldjump"/>
          </p:cNvPr>
          <p:cNvSpPr/>
          <p:nvPr/>
        </p:nvSpPr>
        <p:spPr>
          <a:xfrm>
            <a:off x="762120" y="38098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>
            <a:hlinkClick r:id="rId5" action="ppaction://hlinksldjump"/>
          </p:cNvPr>
          <p:cNvSpPr/>
          <p:nvPr/>
        </p:nvSpPr>
        <p:spPr>
          <a:xfrm>
            <a:off x="762120" y="4876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>
            <a:hlinkClick r:id="rId6" action="ppaction://hlinksldjump"/>
          </p:cNvPr>
          <p:cNvSpPr/>
          <p:nvPr/>
        </p:nvSpPr>
        <p:spPr>
          <a:xfrm>
            <a:off x="762120" y="59436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3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028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ffff00"/>
              </a:buClr>
              <a:buSzPct val="12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Film Uprchlík měl sice pokračování,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ale HF v něm už nehrál. Kdo ho vystřídal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Wesley Snip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Arnold Schwarzenegger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Will Smith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pokračování neexistuj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9" name="">
            <a:hlinkClick r:id="rId3" action="ppaction://hlinksldjump"/>
          </p:cNvPr>
          <p:cNvSpPr/>
          <p:nvPr/>
        </p:nvSpPr>
        <p:spPr>
          <a:xfrm>
            <a:off x="762120" y="30481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>
            <a:hlinkClick r:id="rId4" action="ppaction://hlinksldjump"/>
          </p:cNvPr>
          <p:cNvSpPr/>
          <p:nvPr/>
        </p:nvSpPr>
        <p:spPr>
          <a:xfrm>
            <a:off x="762120" y="4038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>
            <a:hlinkClick r:id="rId5" action="ppaction://hlinksldjump"/>
          </p:cNvPr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>
            <a:hlinkClick r:id="rId6" action="ppaction://hlinksldjump"/>
          </p:cNvPr>
          <p:cNvSpPr/>
          <p:nvPr/>
        </p:nvSpPr>
        <p:spPr>
          <a:xfrm>
            <a:off x="762120" y="6019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3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028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ffff00"/>
              </a:buClr>
              <a:buSzPct val="12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Film Uprchlík měl sice pokračování,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ale HF v něm už nehrál. Kdo ho vystřídal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Wesley Snip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Will Smith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pokračování neexistuj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30481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2120" y="6019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ff0066"/>
            </a:gs>
            <a:gs pos="100000">
              <a:srgbClr val="99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4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028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ffff00"/>
              </a:buClr>
              <a:buSzPct val="12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Film se jmenoval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Poldové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Šerifové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Policajti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Četníci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29718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4038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6019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4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028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Film se jmenoval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Poldové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Šerifové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3" name="">
            <a:hlinkClick r:id="rId3" action="ppaction://hlinksldjump"/>
          </p:cNvPr>
          <p:cNvSpPr/>
          <p:nvPr/>
        </p:nvSpPr>
        <p:spPr>
          <a:xfrm>
            <a:off x="762120" y="29718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>
            <a:hlinkClick r:id="rId4" action="ppaction://hlinksldjump"/>
          </p:cNvPr>
          <p:cNvSpPr/>
          <p:nvPr/>
        </p:nvSpPr>
        <p:spPr>
          <a:xfrm>
            <a:off x="762120" y="4038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ff0066"/>
            </a:gs>
            <a:gs pos="100000">
              <a:srgbClr val="99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5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028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ffff00"/>
              </a:buClr>
              <a:buSzPct val="12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HF hrál i v známém sci-fi filmu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E. T. Mimozemšťan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ANO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N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ANO, ale záběry se nepoužili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ANO, ale role byla přeobsazen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0" name="">
            <a:hlinkClick r:id="rId3" action="ppaction://hlinksldjump"/>
          </p:cNvPr>
          <p:cNvSpPr/>
          <p:nvPr/>
        </p:nvSpPr>
        <p:spPr>
          <a:xfrm>
            <a:off x="762120" y="30481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>
            <a:hlinkClick r:id="rId4" action="ppaction://hlinksldjump"/>
          </p:cNvPr>
          <p:cNvSpPr/>
          <p:nvPr/>
        </p:nvSpPr>
        <p:spPr>
          <a:xfrm>
            <a:off x="762120" y="4038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>
            <a:hlinkClick r:id="rId5" action="ppaction://hlinksldjump"/>
          </p:cNvPr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>
            <a:hlinkClick r:id="rId6" action="ppaction://hlinksldjump"/>
          </p:cNvPr>
          <p:cNvSpPr/>
          <p:nvPr/>
        </p:nvSpPr>
        <p:spPr>
          <a:xfrm>
            <a:off x="762120" y="6019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5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028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ffff00"/>
              </a:buClr>
              <a:buSzPct val="12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HF hrál i v známém sci-fi filmu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E. T. Mimozemšťan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ANO, ale záběry se nepoužili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ANO, ale role byla přeobsazen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8" name=""/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120" y="6019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ff0066"/>
            </a:gs>
            <a:gs pos="100000">
              <a:srgbClr val="99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br>
              <a:rPr sz="9600"/>
            </a:br>
            <a:r>
              <a:rPr b="0" lang="cs-CZ" sz="6000" spc="-1" strike="noStrike">
                <a:solidFill>
                  <a:srgbClr val="ffff00"/>
                </a:solidFill>
                <a:latin typeface="Impact"/>
              </a:rPr>
              <a:t>pokračuj zde</a:t>
            </a:r>
            <a:endParaRPr b="0" lang="en-US" sz="60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824360" cy="44960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7086600" y="579132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179" h="21600">
                <a:moveTo>
                  <a:pt x="20583" y="3794"/>
                </a:moveTo>
                <a:lnTo>
                  <a:pt x="34596" y="10800"/>
                </a:lnTo>
                <a:lnTo>
                  <a:pt x="20583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33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4038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ff"/>
                </a:solidFill>
                <a:latin typeface="Impact"/>
              </a:rPr>
              <a:t>ŠPATNĚ</a:t>
            </a:r>
            <a:br>
              <a:rPr sz="9600"/>
            </a:br>
            <a:r>
              <a:rPr b="1" lang="cs-CZ" sz="3600" spc="-1" strike="noStrike">
                <a:solidFill>
                  <a:srgbClr val="ffffff"/>
                </a:solidFill>
                <a:latin typeface="Impact"/>
              </a:rPr>
              <a:t>pokračuj kliknutím zde</a:t>
            </a: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400800" cy="36576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2743200" y="5867280"/>
            <a:ext cx="4191120" cy="685800"/>
          </a:xfrm>
          <a:custGeom>
            <a:avLst/>
            <a:gdLst>
              <a:gd name="textAreaLeft" fmla="*/ 129960 w 4191120"/>
              <a:gd name="textAreaRight" fmla="*/ 4061160 w 4191120"/>
              <a:gd name="textAreaTop" fmla="*/ 129960 h 685800"/>
              <a:gd name="textAreaBottom" fmla="*/ 555840 h 685800"/>
            </a:gdLst>
            <a:ahLst/>
            <a:rect l="textAreaLeft" t="textAreaTop" r="textAreaRight" b="textAreaBottom"/>
            <a:pathLst>
              <a:path w="131946" h="21600">
                <a:moveTo>
                  <a:pt x="0" y="0"/>
                </a:moveTo>
                <a:lnTo>
                  <a:pt x="131946" y="0"/>
                </a:lnTo>
                <a:lnTo>
                  <a:pt x="131946" y="21600"/>
                </a:lnTo>
                <a:lnTo>
                  <a:pt x="0" y="21600"/>
                </a:lnTo>
                <a:close/>
              </a:path>
              <a:path fill="lightenLess" w="131946" h="21600">
                <a:moveTo>
                  <a:pt x="0" y="0"/>
                </a:moveTo>
                <a:lnTo>
                  <a:pt x="131946" y="0"/>
                </a:lnTo>
                <a:lnTo>
                  <a:pt x="127846" y="4100"/>
                </a:lnTo>
                <a:lnTo>
                  <a:pt x="4100" y="4100"/>
                </a:lnTo>
                <a:close/>
              </a:path>
              <a:path fill="darken" w="131946" h="21600">
                <a:moveTo>
                  <a:pt x="131946" y="0"/>
                </a:moveTo>
                <a:lnTo>
                  <a:pt x="131946" y="21600"/>
                </a:lnTo>
                <a:lnTo>
                  <a:pt x="127846" y="17500"/>
                </a:lnTo>
                <a:lnTo>
                  <a:pt x="127846" y="4100"/>
                </a:lnTo>
                <a:close/>
              </a:path>
              <a:path fill="darkenLess" w="131946" h="21600">
                <a:moveTo>
                  <a:pt x="131946" y="21600"/>
                </a:moveTo>
                <a:lnTo>
                  <a:pt x="0" y="21600"/>
                </a:lnTo>
                <a:lnTo>
                  <a:pt x="4100" y="17500"/>
                </a:lnTo>
                <a:lnTo>
                  <a:pt x="127846" y="17500"/>
                </a:lnTo>
                <a:close/>
              </a:path>
              <a:path fill="lighten" w="131946" h="21600">
                <a:moveTo>
                  <a:pt x="0" y="21600"/>
                </a:moveTo>
                <a:lnTo>
                  <a:pt x="0" y="0"/>
                </a:lnTo>
                <a:lnTo>
                  <a:pt x="4100" y="4100"/>
                </a:lnTo>
                <a:lnTo>
                  <a:pt x="4100" y="17500"/>
                </a:lnTo>
                <a:close/>
              </a:path>
              <a:path fill="darken" w="131946" h="21600">
                <a:moveTo>
                  <a:pt x="60979" y="5806"/>
                </a:moveTo>
                <a:lnTo>
                  <a:pt x="70967" y="10800"/>
                </a:lnTo>
                <a:lnTo>
                  <a:pt x="60979" y="15794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Americký herec Harrison Ford se narodil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13. 7. 1942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18. 9. 1932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7" name="">
            <a:hlinkClick r:id="rId3" action="ppaction://hlinksldjump"/>
          </p:cNvPr>
          <p:cNvSpPr/>
          <p:nvPr/>
        </p:nvSpPr>
        <p:spPr>
          <a:xfrm>
            <a:off x="762120" y="2743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>
            <a:hlinkClick r:id="rId4" action="ppaction://hlinksldjump"/>
          </p:cNvPr>
          <p:cNvSpPr/>
          <p:nvPr/>
        </p:nvSpPr>
        <p:spPr>
          <a:xfrm>
            <a:off x="762120" y="4876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6095880"/>
          </a:xfrm>
          <a:prstGeom prst="rect">
            <a:avLst/>
          </a:prstGeom>
          <a:noFill/>
          <a:ln w="0">
            <a:noFill/>
          </a:ln>
          <a:effectLst>
            <a:outerShdw dist="134955" dir="2927119" blurRad="0" rotWithShape="0">
              <a:srgbClr val="d60093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cc00"/>
                </a:solidFill>
                <a:latin typeface="Impact"/>
              </a:rPr>
              <a:t>JE MI LÍTO</a:t>
            </a:r>
            <a:br>
              <a:rPr sz="9600"/>
            </a:br>
            <a:r>
              <a:rPr b="0" lang="cs-CZ" sz="9600" spc="-1" strike="noStrike">
                <a:solidFill>
                  <a:srgbClr val="ffcc00"/>
                </a:solidFill>
                <a:latin typeface="Impact"/>
              </a:rPr>
              <a:t>tvé znalosti</a:t>
            </a:r>
            <a:br>
              <a:rPr sz="9600"/>
            </a:br>
            <a:r>
              <a:rPr b="0" lang="cs-CZ" sz="9600" spc="-1" strike="noStrike">
                <a:solidFill>
                  <a:srgbClr val="ffcc00"/>
                </a:solidFill>
                <a:latin typeface="Impact"/>
              </a:rPr>
              <a:t>jsou malé</a:t>
            </a:r>
            <a:br>
              <a:rPr sz="9600"/>
            </a:br>
            <a:r>
              <a:rPr b="0" lang="cs-CZ" sz="9600" spc="-1" strike="noStrike">
                <a:solidFill>
                  <a:srgbClr val="ffcc00"/>
                </a:solidFill>
                <a:latin typeface="Impact"/>
              </a:rPr>
              <a:t>začni znovu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67" name=""/>
          <p:cNvSpPr/>
          <p:nvPr/>
        </p:nvSpPr>
        <p:spPr>
          <a:xfrm>
            <a:off x="7620120" y="4876920"/>
            <a:ext cx="1295280" cy="1447560"/>
          </a:xfrm>
          <a:custGeom>
            <a:avLst/>
            <a:gdLst>
              <a:gd name="textAreaLeft" fmla="*/ 185760 w 1295280"/>
              <a:gd name="textAreaRight" fmla="*/ 1109520 w 1295280"/>
              <a:gd name="textAreaTop" fmla="*/ 185760 h 1447560"/>
              <a:gd name="textAreaBottom" fmla="*/ 1261800 h 1447560"/>
            </a:gdLst>
            <a:ahLst/>
            <a:rect l="textAreaLeft" t="textAreaTop" r="textAreaRight" b="textAreaBottom"/>
            <a:pathLst>
              <a:path w="21600" h="24139">
                <a:moveTo>
                  <a:pt x="0" y="0"/>
                </a:moveTo>
                <a:lnTo>
                  <a:pt x="21600" y="0"/>
                </a:lnTo>
                <a:lnTo>
                  <a:pt x="21600" y="24139"/>
                </a:lnTo>
                <a:lnTo>
                  <a:pt x="0" y="24139"/>
                </a:lnTo>
                <a:close/>
              </a:path>
              <a:path fill="lightenLess" w="21600" h="24139">
                <a:moveTo>
                  <a:pt x="0" y="0"/>
                </a:moveTo>
                <a:lnTo>
                  <a:pt x="21600" y="0"/>
                </a:lnTo>
                <a:lnTo>
                  <a:pt x="18503" y="3097"/>
                </a:lnTo>
                <a:lnTo>
                  <a:pt x="3097" y="3097"/>
                </a:lnTo>
                <a:close/>
              </a:path>
              <a:path fill="darken" w="21600" h="24139">
                <a:moveTo>
                  <a:pt x="21600" y="0"/>
                </a:moveTo>
                <a:lnTo>
                  <a:pt x="21600" y="24139"/>
                </a:lnTo>
                <a:lnTo>
                  <a:pt x="18503" y="21042"/>
                </a:lnTo>
                <a:lnTo>
                  <a:pt x="18503" y="3097"/>
                </a:lnTo>
                <a:close/>
              </a:path>
              <a:path fill="darkenLess" w="21600" h="24139">
                <a:moveTo>
                  <a:pt x="21600" y="24139"/>
                </a:moveTo>
                <a:lnTo>
                  <a:pt x="0" y="24139"/>
                </a:lnTo>
                <a:lnTo>
                  <a:pt x="3097" y="21042"/>
                </a:lnTo>
                <a:lnTo>
                  <a:pt x="18503" y="21042"/>
                </a:lnTo>
                <a:close/>
              </a:path>
              <a:path fill="lighten" w="21600" h="24139">
                <a:moveTo>
                  <a:pt x="0" y="24139"/>
                </a:moveTo>
                <a:lnTo>
                  <a:pt x="0" y="0"/>
                </a:lnTo>
                <a:lnTo>
                  <a:pt x="3097" y="3097"/>
                </a:lnTo>
                <a:lnTo>
                  <a:pt x="3097" y="21042"/>
                </a:lnTo>
                <a:close/>
              </a:path>
              <a:path fill="darken" w="21600" h="24139">
                <a:moveTo>
                  <a:pt x="5058" y="9359"/>
                </a:moveTo>
                <a:lnTo>
                  <a:pt x="7933" y="9359"/>
                </a:lnTo>
                <a:lnTo>
                  <a:pt x="7933" y="13731"/>
                </a:lnTo>
                <a:cubicBezTo>
                  <a:pt x="7933" y="14487"/>
                  <a:pt x="8589" y="15086"/>
                  <a:pt x="9438" y="15086"/>
                </a:cubicBezTo>
                <a:lnTo>
                  <a:pt x="10800" y="15086"/>
                </a:lnTo>
                <a:cubicBezTo>
                  <a:pt x="11649" y="15086"/>
                  <a:pt x="12305" y="14487"/>
                  <a:pt x="12305" y="13731"/>
                </a:cubicBezTo>
                <a:lnTo>
                  <a:pt x="12305" y="9359"/>
                </a:lnTo>
                <a:lnTo>
                  <a:pt x="10800" y="9359"/>
                </a:lnTo>
                <a:lnTo>
                  <a:pt x="13674" y="6485"/>
                </a:lnTo>
                <a:lnTo>
                  <a:pt x="16684" y="9359"/>
                </a:lnTo>
                <a:lnTo>
                  <a:pt x="15179" y="9359"/>
                </a:lnTo>
                <a:lnTo>
                  <a:pt x="15179" y="13731"/>
                </a:lnTo>
                <a:cubicBezTo>
                  <a:pt x="15179" y="15999"/>
                  <a:pt x="13068" y="18096"/>
                  <a:pt x="10800" y="18096"/>
                </a:cubicBezTo>
                <a:lnTo>
                  <a:pt x="9438" y="18096"/>
                </a:lnTo>
                <a:cubicBezTo>
                  <a:pt x="7170" y="18096"/>
                  <a:pt x="5058" y="15999"/>
                  <a:pt x="5058" y="13731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6095880"/>
          </a:xfrm>
          <a:prstGeom prst="rect">
            <a:avLst/>
          </a:prstGeom>
          <a:noFill/>
          <a:ln w="0">
            <a:noFill/>
          </a:ln>
          <a:effectLst>
            <a:outerShdw dist="134955" dir="2927119" blurRad="0" rotWithShape="0">
              <a:srgbClr val="d60093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cc00"/>
                </a:solidFill>
                <a:latin typeface="Impact"/>
              </a:rPr>
              <a:t>GRATULUJI</a:t>
            </a:r>
            <a:br>
              <a:rPr sz="9600"/>
            </a:br>
            <a:r>
              <a:rPr b="0" lang="cs-CZ" sz="9600" spc="-1" strike="noStrike">
                <a:solidFill>
                  <a:srgbClr val="ffcc00"/>
                </a:solidFill>
                <a:latin typeface="Impact"/>
              </a:rPr>
              <a:t>soutěž</a:t>
            </a:r>
            <a:br>
              <a:rPr sz="9600"/>
            </a:br>
            <a:r>
              <a:rPr b="0" lang="cs-CZ" sz="9600" spc="-1" strike="noStrike">
                <a:solidFill>
                  <a:srgbClr val="ffcc00"/>
                </a:solidFill>
                <a:latin typeface="Impact"/>
              </a:rPr>
              <a:t>je</a:t>
            </a:r>
            <a:br>
              <a:rPr sz="9600"/>
            </a:br>
            <a:r>
              <a:rPr b="0" lang="cs-CZ" sz="9600" spc="-1" strike="noStrike">
                <a:solidFill>
                  <a:srgbClr val="ffcc00"/>
                </a:solidFill>
                <a:latin typeface="Impact"/>
              </a:rPr>
              <a:t>u konce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</p:spTree>
  </p:cSld>
  <p:transition>
    <p:cover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6629400"/>
          </a:xfrm>
          <a:prstGeom prst="rect">
            <a:avLst/>
          </a:prstGeom>
          <a:noFill/>
          <a:ln w="0">
            <a:noFill/>
          </a:ln>
          <a:effectLst>
            <a:outerShdw dist="134955" dir="2927119" blurRad="0" rotWithShape="0">
              <a:srgbClr val="d60093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 u="sng">
                <a:solidFill>
                  <a:srgbClr val="ffcc00"/>
                </a:solidFill>
                <a:uFillTx/>
                <a:latin typeface="Impact"/>
              </a:rPr>
              <a:t>PŘEJETE SI</a:t>
            </a:r>
            <a:r>
              <a:rPr b="0" lang="cs-CZ" sz="9600" spc="-1" strike="noStrike">
                <a:solidFill>
                  <a:srgbClr val="ffcc00"/>
                </a:solidFill>
                <a:latin typeface="Impact"/>
              </a:rPr>
              <a:t>:</a:t>
            </a:r>
            <a:br>
              <a:rPr sz="9600"/>
            </a:br>
            <a:br>
              <a:rPr sz="6000"/>
            </a:br>
            <a:r>
              <a:rPr b="0" lang="cs-CZ" sz="6000" spc="-1" strike="noStrike">
                <a:solidFill>
                  <a:srgbClr val="ffcc00"/>
                </a:solidFill>
                <a:latin typeface="Impact"/>
              </a:rPr>
              <a:t>opakovat hru</a:t>
            </a:r>
            <a:br>
              <a:rPr sz="6000"/>
            </a:br>
            <a:br>
              <a:rPr sz="6000"/>
            </a:br>
            <a:r>
              <a:rPr b="0" lang="cs-CZ" sz="6000" spc="-1" strike="noStrike">
                <a:solidFill>
                  <a:srgbClr val="ffcc00"/>
                </a:solidFill>
                <a:latin typeface="Impact"/>
              </a:rPr>
              <a:t>ukončit hru</a:t>
            </a:r>
            <a:br>
              <a:rPr sz="6000"/>
            </a:br>
            <a:endParaRPr b="0" lang="en-US" sz="60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70" name="">
            <a:hlinkClick r:id="rId2" action="ppaction://hlinksldjump"/>
          </p:cNvPr>
          <p:cNvSpPr/>
          <p:nvPr/>
        </p:nvSpPr>
        <p:spPr>
          <a:xfrm>
            <a:off x="457200" y="3048120"/>
            <a:ext cx="1447920" cy="761760"/>
          </a:xfrm>
          <a:custGeom>
            <a:avLst/>
            <a:gdLst>
              <a:gd name="textAreaLeft" fmla="*/ 142560 w 1447920"/>
              <a:gd name="textAreaRight" fmla="*/ 1305360 w 1447920"/>
              <a:gd name="textAreaTop" fmla="*/ 142560 h 761760"/>
              <a:gd name="textAreaBottom" fmla="*/ 619200 h 761760"/>
            </a:gdLst>
            <a:ahLst/>
            <a:rect l="textAreaLeft" t="textAreaTop" r="textAreaRight" b="textAreaBottom"/>
            <a:pathLst>
              <a:path w="41047" h="21600">
                <a:moveTo>
                  <a:pt x="0" y="0"/>
                </a:moveTo>
                <a:lnTo>
                  <a:pt x="41047" y="0"/>
                </a:lnTo>
                <a:lnTo>
                  <a:pt x="41047" y="21600"/>
                </a:lnTo>
                <a:lnTo>
                  <a:pt x="0" y="21600"/>
                </a:lnTo>
                <a:close/>
              </a:path>
              <a:path fill="lightenLess" w="41047" h="21600">
                <a:moveTo>
                  <a:pt x="0" y="0"/>
                </a:moveTo>
                <a:lnTo>
                  <a:pt x="41047" y="0"/>
                </a:lnTo>
                <a:lnTo>
                  <a:pt x="36997" y="4050"/>
                </a:lnTo>
                <a:lnTo>
                  <a:pt x="4050" y="4050"/>
                </a:lnTo>
                <a:close/>
              </a:path>
              <a:path fill="darken" w="41047" h="21600">
                <a:moveTo>
                  <a:pt x="41047" y="0"/>
                </a:moveTo>
                <a:lnTo>
                  <a:pt x="41047" y="21600"/>
                </a:lnTo>
                <a:lnTo>
                  <a:pt x="36997" y="17550"/>
                </a:lnTo>
                <a:lnTo>
                  <a:pt x="36997" y="4050"/>
                </a:lnTo>
                <a:close/>
              </a:path>
              <a:path fill="darkenLess" w="41047" h="21600">
                <a:moveTo>
                  <a:pt x="41047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36997" y="17550"/>
                </a:lnTo>
                <a:close/>
              </a:path>
              <a:path fill="lighten" w="41047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  <a:path fill="darken" w="41047" h="21600">
                <a:moveTo>
                  <a:pt x="15492" y="8425"/>
                </a:moveTo>
                <a:lnTo>
                  <a:pt x="18011" y="8425"/>
                </a:lnTo>
                <a:lnTo>
                  <a:pt x="18011" y="12256"/>
                </a:lnTo>
                <a:cubicBezTo>
                  <a:pt x="18011" y="12919"/>
                  <a:pt x="18586" y="13444"/>
                  <a:pt x="19330" y="13444"/>
                </a:cubicBezTo>
                <a:lnTo>
                  <a:pt x="20524" y="13444"/>
                </a:lnTo>
                <a:cubicBezTo>
                  <a:pt x="21267" y="13444"/>
                  <a:pt x="21842" y="12919"/>
                  <a:pt x="21842" y="12256"/>
                </a:cubicBezTo>
                <a:lnTo>
                  <a:pt x="21842" y="8425"/>
                </a:lnTo>
                <a:lnTo>
                  <a:pt x="20524" y="8425"/>
                </a:lnTo>
                <a:lnTo>
                  <a:pt x="23042" y="5906"/>
                </a:lnTo>
                <a:lnTo>
                  <a:pt x="25680" y="8425"/>
                </a:lnTo>
                <a:lnTo>
                  <a:pt x="24361" y="8425"/>
                </a:lnTo>
                <a:lnTo>
                  <a:pt x="24361" y="12256"/>
                </a:lnTo>
                <a:cubicBezTo>
                  <a:pt x="24361" y="14244"/>
                  <a:pt x="22511" y="16081"/>
                  <a:pt x="20524" y="16081"/>
                </a:cubicBezTo>
                <a:lnTo>
                  <a:pt x="19330" y="16081"/>
                </a:lnTo>
                <a:cubicBezTo>
                  <a:pt x="17342" y="16081"/>
                  <a:pt x="15492" y="14244"/>
                  <a:pt x="15492" y="12256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352680" y="5638680"/>
            <a:ext cx="2057400" cy="1067040"/>
          </a:xfrm>
          <a:custGeom>
            <a:avLst/>
            <a:gdLst>
              <a:gd name="textAreaLeft" fmla="*/ 218880 w 2057400"/>
              <a:gd name="textAreaRight" fmla="*/ 1838520 w 2057400"/>
              <a:gd name="textAreaTop" fmla="*/ 218880 h 1067040"/>
              <a:gd name="textAreaBottom" fmla="*/ 848160 h 1067040"/>
            </a:gdLst>
            <a:ahLst/>
            <a:rect l="textAreaLeft" t="textAreaTop" r="textAreaRight" b="textAreaBottom"/>
            <a:pathLst>
              <a:path w="41641" h="21600">
                <a:moveTo>
                  <a:pt x="0" y="0"/>
                </a:moveTo>
                <a:lnTo>
                  <a:pt x="41641" y="0"/>
                </a:lnTo>
                <a:lnTo>
                  <a:pt x="41641" y="21600"/>
                </a:lnTo>
                <a:lnTo>
                  <a:pt x="0" y="21600"/>
                </a:lnTo>
                <a:close/>
              </a:path>
              <a:path fill="lightenLess" w="41641" h="21600">
                <a:moveTo>
                  <a:pt x="0" y="0"/>
                </a:moveTo>
                <a:lnTo>
                  <a:pt x="41641" y="0"/>
                </a:lnTo>
                <a:lnTo>
                  <a:pt x="37205" y="4436"/>
                </a:lnTo>
                <a:lnTo>
                  <a:pt x="4436" y="4436"/>
                </a:lnTo>
                <a:close/>
              </a:path>
              <a:path fill="darken" w="41641" h="21600">
                <a:moveTo>
                  <a:pt x="41641" y="0"/>
                </a:moveTo>
                <a:lnTo>
                  <a:pt x="41641" y="21600"/>
                </a:lnTo>
                <a:lnTo>
                  <a:pt x="37205" y="17164"/>
                </a:lnTo>
                <a:lnTo>
                  <a:pt x="37205" y="4436"/>
                </a:lnTo>
                <a:close/>
              </a:path>
              <a:path fill="darkenLess" w="41641" h="21600">
                <a:moveTo>
                  <a:pt x="41641" y="21600"/>
                </a:moveTo>
                <a:lnTo>
                  <a:pt x="0" y="21600"/>
                </a:lnTo>
                <a:lnTo>
                  <a:pt x="4436" y="17164"/>
                </a:lnTo>
                <a:lnTo>
                  <a:pt x="37205" y="17164"/>
                </a:lnTo>
                <a:close/>
              </a:path>
              <a:path fill="lighten" w="41641" h="21600">
                <a:moveTo>
                  <a:pt x="0" y="21600"/>
                </a:moveTo>
                <a:lnTo>
                  <a:pt x="0" y="0"/>
                </a:lnTo>
                <a:lnTo>
                  <a:pt x="4436" y="4436"/>
                </a:lnTo>
                <a:lnTo>
                  <a:pt x="4436" y="17164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cc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808000"/>
                </a:solidFill>
                <a:latin typeface="Times New Roman"/>
              </a:rPr>
              <a:t>KONE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763120" cy="6095880"/>
          </a:xfrm>
          <a:prstGeom prst="rect">
            <a:avLst/>
          </a:prstGeom>
          <a:noFill/>
          <a:ln w="0">
            <a:noFill/>
          </a:ln>
          <a:effectLst>
            <a:outerShdw dist="222200" dir="7260690" blurRad="0" rotWithShape="0">
              <a:srgbClr val="d60093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0" spc="-1" strike="noStrike">
                <a:solidFill>
                  <a:srgbClr val="ffcc00"/>
                </a:solidFill>
                <a:latin typeface="Impact"/>
              </a:rPr>
              <a:t>Scénář, produkce, námět, efekty, výroba a režie:</a:t>
            </a:r>
            <a:br>
              <a:rPr sz="8000"/>
            </a:br>
            <a:r>
              <a:rPr b="1" i="1" lang="cs-CZ" sz="16000" spc="-1" strike="noStrike">
                <a:solidFill>
                  <a:srgbClr val="ffcc00"/>
                </a:solidFill>
                <a:latin typeface="Impact"/>
              </a:rPr>
              <a:t>BIGLION</a:t>
            </a:r>
            <a:endParaRPr b="0" lang="en-US" sz="16000" spc="-1" strike="noStrike">
              <a:solidFill>
                <a:srgbClr val="ffcc00"/>
              </a:solidFill>
              <a:latin typeface="Impact"/>
            </a:endParaRPr>
          </a:p>
        </p:txBody>
      </p:sp>
    </p:spTree>
  </p:cSld>
  <p:transition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7543800"/>
          </a:xfrm>
          <a:prstGeom prst="rect">
            <a:avLst/>
          </a:prstGeom>
          <a:noFill/>
          <a:ln w="0">
            <a:noFill/>
          </a:ln>
          <a:effectLst>
            <a:outerShdw dist="180599" dir="7760257" blurRad="0" rotWithShape="0">
              <a:srgbClr val="33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cc00"/>
                </a:solidFill>
                <a:latin typeface="Impact"/>
              </a:rPr>
              <a:t>(c)</a:t>
            </a:r>
            <a:br>
              <a:rPr sz="9600"/>
            </a:br>
            <a:r>
              <a:rPr b="0" lang="cs-CZ" sz="9600" spc="-1" strike="noStrike">
                <a:solidFill>
                  <a:srgbClr val="ffcc00"/>
                </a:solidFill>
                <a:latin typeface="Impact"/>
              </a:rPr>
              <a:t>BIGLION</a:t>
            </a:r>
            <a:br>
              <a:rPr sz="9600"/>
            </a:br>
            <a:r>
              <a:rPr b="1" lang="cs-CZ" sz="19000" spc="-1" strike="noStrike">
                <a:solidFill>
                  <a:srgbClr val="ffcc00"/>
                </a:solidFill>
                <a:latin typeface="Impact"/>
              </a:rPr>
              <a:t>2001</a:t>
            </a:r>
            <a:br>
              <a:rPr sz="9600"/>
            </a:br>
            <a:endParaRPr b="0" lang="en-US" sz="19000" spc="-1" strike="noStrike">
              <a:solidFill>
                <a:srgbClr val="ffcc00"/>
              </a:solidFill>
              <a:latin typeface="Impact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ff0066"/>
            </a:gs>
            <a:gs pos="100000">
              <a:srgbClr val="99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ffff00"/>
              </a:buClr>
              <a:buSzPct val="12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Ve městě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New Yorku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Chicagu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Los Angel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63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Washinghton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762120" y="2895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762120" y="39625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>
            <a:hlinkClick r:id="rId5" action="ppaction://hlinksldjump"/>
          </p:cNvPr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>
            <a:hlinkClick r:id="rId6" action="ppaction://hlinksldjump"/>
          </p:cNvPr>
          <p:cNvSpPr/>
          <p:nvPr/>
        </p:nvSpPr>
        <p:spPr>
          <a:xfrm>
            <a:off x="762120" y="6019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462f75"/>
            </a:gs>
            <a:gs pos="100000">
              <a:srgbClr val="99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1001"/>
              </a:spcBef>
              <a:buClr>
                <a:srgbClr val="ffff00"/>
              </a:buClr>
              <a:buSzPct val="12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Ve městě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811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811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811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11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Chicagu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811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11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11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11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Los Angel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811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811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762120" y="39625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>
            <a:hlinkClick r:id="rId4" action="ppaction://hlinksldjump"/>
          </p:cNvPr>
          <p:cNvSpPr/>
          <p:nvPr/>
        </p:nvSpPr>
        <p:spPr>
          <a:xfrm>
            <a:off x="762120" y="58672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ff0066"/>
            </a:gs>
            <a:gs pos="100000">
              <a:srgbClr val="99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18:38:18Z</dcterms:created>
  <dc:creator>BIGLION</dc:creator>
  <dc:description/>
  <dc:language>en-US</dc:language>
  <cp:lastModifiedBy>Ja</cp:lastModifiedBy>
  <dcterms:modified xsi:type="dcterms:W3CDTF">2002-01-31T10:48:41Z</dcterms:modified>
  <cp:revision>37</cp:revision>
  <dc:subject/>
  <dc:title>KVÍZ - Harrison Ford</dc:title>
</cp:coreProperties>
</file>